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C552-E98F-43A7-9C06-9DC5CF97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ED60-8160-4D7C-8A00-871893E0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6C95-D755-41BD-97D8-F6A75CAE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76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880" y="249516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76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880" y="6180840"/>
            <a:ext cx="219096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EDC1-56D3-473E-BD72-C46364A94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9CC9-5FC3-4C9A-9440-48FF7694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AC1B-653C-4106-9DAB-E3BEAEAD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8C0C-CBDB-404B-AA6C-E942E89D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652E-439B-414B-89C6-D8D89FE4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54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309A-8831-4D6A-996E-C6ED0441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385D-2491-4468-8CB1-06A1DAE1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5320" y="618084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CDCB-9C51-4767-B727-9F052E2F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5320" y="2495160"/>
            <a:ext cx="3321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80840"/>
            <a:ext cx="680544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40FF-0E60-4E29-9A23-66A9A0E0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54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5160"/>
            <a:ext cx="680544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91044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EEEB-B165-4BF3-9BBA-5C277ECF123D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3000" y="9910440"/>
            <a:ext cx="239544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8000" y="9910440"/>
            <a:ext cx="176544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26D7-9E26-4F49-AB41-90854EDB538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5"/>
          <p:cNvSpPr/>
          <p:nvPr/>
        </p:nvSpPr>
        <p:spPr>
          <a:xfrm>
            <a:off x="828720" y="-529200"/>
            <a:ext cx="5935680" cy="10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дминистрация Северо-Енисейского рай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7"/>
          <p:cNvSpPr/>
          <p:nvPr/>
        </p:nvSpPr>
        <p:spPr>
          <a:xfrm>
            <a:off x="2438280" y="4561560"/>
            <a:ext cx="5123160" cy="14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еализации национального проекта «Экология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рритории Северо-Енисей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2019 г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8"/>
          <p:cNvSpPr/>
          <p:nvPr/>
        </p:nvSpPr>
        <p:spPr>
          <a:xfrm>
            <a:off x="2625840" y="9801720"/>
            <a:ext cx="238104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п Северо-Енисей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95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020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"/>
          <p:cNvPicPr/>
          <p:nvPr/>
        </p:nvPicPr>
        <p:blipFill>
          <a:blip r:embed="rId2"/>
          <a:stretch/>
        </p:blipFill>
        <p:spPr>
          <a:xfrm>
            <a:off x="684360" y="4410000"/>
            <a:ext cx="1871640" cy="172872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12" descr="iAPXGCG4T"/>
          <p:cNvPicPr/>
          <p:nvPr/>
        </p:nvPicPr>
        <p:blipFill>
          <a:blip r:embed="rId3"/>
          <a:stretch/>
        </p:blipFill>
        <p:spPr>
          <a:xfrm>
            <a:off x="304920" y="6765840"/>
            <a:ext cx="4133880" cy="32004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7" descr="http://www.admse.ru/upload/iblock/92b/Сквер%20Радуга.jpg"/>
          <p:cNvPicPr/>
          <p:nvPr/>
        </p:nvPicPr>
        <p:blipFill>
          <a:blip r:embed="rId4"/>
          <a:stretch/>
        </p:blipFill>
        <p:spPr>
          <a:xfrm>
            <a:off x="231840" y="792000"/>
            <a:ext cx="4138560" cy="3127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U:\ОТДЕЛ ЭКОНОМИЧЕСКОГО АНАЛИЗА\-=электронная почта=-\Максимова\фото мусорка\IMG_0047.JPG"/>
          <p:cNvPicPr/>
          <p:nvPr/>
        </p:nvPicPr>
        <p:blipFill>
          <a:blip r:embed="rId5"/>
          <a:stretch/>
        </p:blipFill>
        <p:spPr>
          <a:xfrm>
            <a:off x="4627440" y="792000"/>
            <a:ext cx="2657520" cy="3146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U:\ОТДЕЛ ЭКОНОМИЧЕСКОГО АНАЛИЗА\-=электронная почта=-\Максимова\Донского 49.jpg"/>
          <p:cNvPicPr/>
          <p:nvPr/>
        </p:nvPicPr>
        <p:blipFill>
          <a:blip r:embed="rId6"/>
          <a:stretch/>
        </p:blipFill>
        <p:spPr>
          <a:xfrm>
            <a:off x="4627440" y="6765840"/>
            <a:ext cx="25480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4T07:01:29Z</dcterms:created>
  <dc:creator>Линючев Александр Сергеевич</dc:creator>
  <dc:description/>
  <dc:language>en-US</dc:language>
  <cp:lastModifiedBy>Максимова</cp:lastModifiedBy>
  <dcterms:modified xsi:type="dcterms:W3CDTF">2020-02-14T05:33:24Z</dcterms:modified>
  <cp:revision>113</cp:revision>
  <dc:subject/>
  <dc:title>Приложение № 1 к отчету  об организации работы с населением в администрации Северо-Енисейского района</dc:title>
</cp:coreProperties>
</file>